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8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40D17A92-4BC0-41B0-A64D-A12EB1B2922C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96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027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C67624D4-EAD5-4983-9A2F-30139B56B546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8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068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134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1FFC9091-45FC-49F8-9F4C-970B9A33A6B3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ftr" idx="9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75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7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4D56B814-F029-416C-A01C-CE00FE4A5B77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ftr" idx="10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7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8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R:\Templates &amp; Logos\Logos\FEFE Logos from Debra Bowles\FEFE Logo Clear Background.png"/>
          <p:cNvPicPr/>
          <p:nvPr/>
        </p:nvPicPr>
        <p:blipFill>
          <a:blip r:embed="rId2"/>
          <a:stretch/>
        </p:blipFill>
        <p:spPr>
          <a:xfrm>
            <a:off x="1523880" y="6035760"/>
            <a:ext cx="1067040" cy="593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R:\TCAI\Templates &amp; Logos\Logos\TCAI ICON_final.png"/>
          <p:cNvPicPr/>
          <p:nvPr/>
        </p:nvPicPr>
        <p:blipFill>
          <a:blip r:embed="rId3"/>
          <a:stretch/>
        </p:blipFill>
        <p:spPr>
          <a:xfrm>
            <a:off x="6629400" y="626436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212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E1371BA2-7999-48F0-ADA3-CE4FB4665F05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319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F5069649-C261-4E78-B305-8D89C174FC35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2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426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EAA7A0A5-C2F7-4210-8AF3-9FFD244BFBAC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3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533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2C6E374F-A6E7-4641-9E9B-133BB0BC40D0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4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640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72E7CA22-CEF9-47E0-9A89-144CCFC1E1BB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ftr" idx="5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747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9F098526-F5F8-4C00-83C7-E9A5EF73A68C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ftr" idx="6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854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34F93272-882D-4921-84BD-B9C0185EA982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ftr" idx="7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ankrate.com/calculators/auto/auto-loan-calculator.aspx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ankrate.com/calculators/auto/auto-loan-calculator.aspx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Shopping for an Automobile Loan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12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What Do I Need to Know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83" name="Picture 5" descr="TN00552_"/>
          <p:cNvPicPr/>
          <p:nvPr/>
        </p:nvPicPr>
        <p:blipFill>
          <a:blip r:embed="rId1"/>
          <a:stretch/>
        </p:blipFill>
        <p:spPr>
          <a:xfrm>
            <a:off x="1447920" y="4267080"/>
            <a:ext cx="3362040" cy="1495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6"/>
          <p:cNvSpPr/>
          <p:nvPr/>
        </p:nvSpPr>
        <p:spPr>
          <a:xfrm>
            <a:off x="5189040" y="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Using Financial Cal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837720" y="8535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The Truth in Lending Ac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ree basic rules for lender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enders cannot advertise a good deal which is not available to all consum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dvertisements must include all or none of the term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f more than 4 installments are required to pay for the good or service, the agreement must say “The cost of credit is included in the price quoted for goods and services”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761760" y="312840"/>
            <a:ext cx="83818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pperplate Gothic Light"/>
              </a:rPr>
              <a:t>The Truth in Lending Act continued</a:t>
            </a:r>
            <a:endParaRPr b="1" lang="en-US" sz="4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enders must disclose to consumer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terest rate expressed as the AP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otal finance charg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llows consumers to easily compare credit off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What’s the Real Price?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309" name="Picture 6" descr="j0212735"/>
          <p:cNvPicPr/>
          <p:nvPr/>
        </p:nvPicPr>
        <p:blipFill>
          <a:blip r:embed="rId1"/>
          <a:stretch/>
        </p:blipFill>
        <p:spPr>
          <a:xfrm>
            <a:off x="5105520" y="3505320"/>
            <a:ext cx="17589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of a Loan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Negotiated Pric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ice being paid for the automobile agreed upon by the seller and buye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own Paymen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mount of money being paid for the automobile at time of purchase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ually require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rade-I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mount of money received for trading in an automobil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rade-in amount is subtracted from the negotiated price of the automobil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incipal Loan Amou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mount of the loan for the automobile after subtracting the down payment and/or trade-in price from the negotiated price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Without interest and fe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nnual Percentage Rate (APR)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easure of the cost of credit on a yearly basis expressed as a percentag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ime Period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mount of time the loan will be repai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ually expressed in month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Cost of the Loa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otal of the principal loan amount, interest paid, and other fe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Purchasing Cos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otal of the down payment, trade-in value, and total loan amou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Rules of Thumb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larger the down payment on an automobile, the lower the principal loan amount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longer the time period of the loan, the smaller the payments. However, more interest is paid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higher the APR, the more interest is paid and the larger the total loan amount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Using Financial Calculators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22" name="Picture 7" descr="BS00923_[1]"/>
          <p:cNvPicPr/>
          <p:nvPr/>
        </p:nvPicPr>
        <p:blipFill>
          <a:blip r:embed="rId1"/>
          <a:stretch/>
        </p:blipFill>
        <p:spPr>
          <a:xfrm>
            <a:off x="1600200" y="3276720"/>
            <a:ext cx="2289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ree variables are required to calculate the cost of a loan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incipal loan amount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PR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ime period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Automobile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912960" y="2209680"/>
            <a:ext cx="55641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aur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most expensive purchase for most consum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urchased with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Loan / credit – very comm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87" name="Picture 7" descr="j0212833"/>
          <p:cNvPicPr/>
          <p:nvPr/>
        </p:nvPicPr>
        <p:blipFill>
          <a:blip r:embed="rId1"/>
          <a:stretch/>
        </p:blipFill>
        <p:spPr>
          <a:xfrm>
            <a:off x="6172200" y="2666880"/>
            <a:ext cx="18097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912600" y="205740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Joe has decided to purchase an automobil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Negotiated price - $7,500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own payment - $2,500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PR – 8%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ime Period – 3 yea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is it really going to cost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7,500 - $2,500 = $5,000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entaur"/>
              </a:rPr>
              <a:t>(Negotiated price – Down payment = Principal loan amount)</a:t>
            </a:r>
            <a:endParaRPr b="0" lang="en-US" sz="15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5,000 over 3 years at 8% APR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Step 1: Calculate monthly paymen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Go to the financial calculator for auto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Centaur"/>
                <a:hlinkClick r:id="rId1"/>
              </a:rPr>
              <a:t>http://www.bankrate.com/calculators/auto/auto-loan-calculator.aspx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Key in the following variable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Auto loan amount = $5,000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Auto loan term = 3 years or 36 months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Interest rate = 3 years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Auto loan start date: use today’s date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Press calculate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Auto loan monthly payment = $156.68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914040" y="19810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tep 2: Calculate interest paid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$156.68 * 36 = $5,640.55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(Monthly payment * Number of payments = Total  loan amount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$5,640.55 – 5,000.00 = $640.55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(Total loan amount – principal loan amount = interest paid)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What’s the Real cost?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loan amount = $5,640.55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purchasing cost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loan amount + down paymen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$5,640.55 + $2,500.00 = $8,140.55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779400" y="1522440"/>
            <a:ext cx="76788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Down Payment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How does the cost change with different down payment amounts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35" name="Picture 9" descr="j0250658"/>
          <p:cNvPicPr/>
          <p:nvPr/>
        </p:nvPicPr>
        <p:blipFill>
          <a:blip r:embed="rId1"/>
          <a:stretch/>
        </p:blipFill>
        <p:spPr>
          <a:xfrm>
            <a:off x="1523880" y="3581280"/>
            <a:ext cx="19908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own Payment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alculate the cost of a $7,500 car with an 8% APR over 36 months (3 years)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$1,000 down payme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$2,500 down payme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are the monthly payments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ow much interest is paid?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is the total purchasing cost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e with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$1,000 Down Paymen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912600" y="182880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$7,500 - $1,000 = $6,500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Negotiated price – Down payment = Principal loan amoun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$6,500 over 3 years at 8% APR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tep 1: Calculate monthly payment at 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Centaur"/>
                <a:hlinkClick r:id="rId1"/>
              </a:rPr>
              <a:t>http://www.bankrate.com/calculators/auto/auto-loan-calculator.aspx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Principal loan amount:  6,500 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ime period:  3 years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APR:  8 %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 = __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tep 2: Calculate interest paid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 * 36 = __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Monthly payment * Number of payments = Total loan amoun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 – $6,500 =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Total loan amount – Principal loan amount = Interest paid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tep 3: Calculate total purchasing cost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_ + $1,000 = _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Total loan amount + Down payment = Total purchasing cos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e with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$2,500 Down Paymen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$7,500 - $2,500 =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Negotiated price – Down payment = Principal loan amoun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___________ </a:t>
            </a: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(principal loan amount) over 3 years at 8% APR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Step 1: Calculate monthly payment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Principal loan amount:  ____________ 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ime period:  3 years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APR:  8 %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 = </a:t>
            </a: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Step 2: Calculate interest paid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 * 36 = __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Monthly payment * Number of payments = Total loan amoun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 – ____________ =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Total loan amount – Principal loan amount = Interest paid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Step 3: Calculate total purchasing cost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_ + $2,500 = _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Total loan amount + Down payment = Total purchasing cos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spcBef>
                <a:spcPts val="32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own Payment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Example #1 - $1,000 down paymen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Principal loan amount - 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Monthly payment - 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Interest paid - 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Total purchasing cost - 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Example #2 - $2,500 down paymen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Principal loan amount -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Monthly payment -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Interest paid -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Total purchasing cost - _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rice Difference in Total purchasing costs- </a:t>
            </a:r>
            <a:r>
              <a:rPr b="0" i="1" lang="en-US" sz="2400" spc="-1" strike="noStrike">
                <a:solidFill>
                  <a:srgbClr val="000000"/>
                </a:solidFill>
                <a:latin typeface="Centaur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The higher the down payment, the lower the principal loan amount.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52280" y="790920"/>
            <a:ext cx="8839440" cy="173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pperplate Gothic Light"/>
              </a:rPr>
              <a:t>Annual Percentage Rate (APR)</a:t>
            </a:r>
            <a:endParaRPr b="1" lang="en-US" sz="5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How does the cost change with different APRs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46" name="Picture 4" descr="DD00758_[1]"/>
          <p:cNvPicPr/>
          <p:nvPr/>
        </p:nvPicPr>
        <p:blipFill>
          <a:blip r:embed="rId1"/>
          <a:stretch/>
        </p:blipFill>
        <p:spPr>
          <a:xfrm>
            <a:off x="1371600" y="3429000"/>
            <a:ext cx="2209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Automobile Loans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289" name="Picture 6" descr="j0279106"/>
          <p:cNvPicPr/>
          <p:nvPr/>
        </p:nvPicPr>
        <p:blipFill>
          <a:blip r:embed="rId1"/>
          <a:stretch/>
        </p:blipFill>
        <p:spPr>
          <a:xfrm>
            <a:off x="4648320" y="3276720"/>
            <a:ext cx="286380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APR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alculate the cost of a $7,500 car with a $2,500 down payment over 36 months   (3 years) at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8% AP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10% AP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are the monthly payments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ow much interest is paid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is the total purchasing cost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APR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7,500 car with 8% APR, $2,500 Down payment, Time period 3 years.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085760" indent="-21708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s - 156.68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085760" indent="-21708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Interest paid – 640.48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085760" indent="-21708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otal purchasing cost – 8140.48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7,500 car with 10% APR, $2,500 Down payment, Time period 3 years.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085760" indent="-21708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s - 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085760" indent="-21708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Interest paid - 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085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aur"/>
              </a:rPr>
              <a:t>(Monthly payment * 36 – Principal loan amount = Interest paid)</a:t>
            </a:r>
            <a:endParaRPr b="0" lang="en-US" sz="1400" spc="-1" strike="noStrike">
              <a:solidFill>
                <a:srgbClr val="000000"/>
              </a:solidFill>
              <a:latin typeface="Centaur"/>
            </a:endParaRPr>
          </a:p>
          <a:p>
            <a:pPr lvl="2" marL="1085760" indent="-21708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otal purchasing cost - 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085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aur"/>
              </a:rPr>
              <a:t>(Total loan amount + Down payment = Total purchasing cost)</a:t>
            </a:r>
            <a:endParaRPr b="0" lang="en-US" sz="1400" spc="-1" strike="noStrike">
              <a:solidFill>
                <a:srgbClr val="000000"/>
              </a:solidFill>
              <a:latin typeface="Centaur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Price Difference in total purchasing cost- _________________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The higher the APR, the more interest paid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779400" y="1522440"/>
            <a:ext cx="76788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Time Period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How does the cost change with different time periods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53" name="Picture 14" descr="j0188067[1]"/>
          <p:cNvPicPr/>
          <p:nvPr/>
        </p:nvPicPr>
        <p:blipFill>
          <a:blip r:embed="rId1"/>
          <a:stretch/>
        </p:blipFill>
        <p:spPr>
          <a:xfrm>
            <a:off x="1523880" y="3276720"/>
            <a:ext cx="22384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Time Period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alculate the cost of a $7,500 car with a $2,500 down payment with an 8% APR over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36 months (3 years)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60 months (5 years)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What are the monthly payments? 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__________(36 months) __________(60 months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How much interest is paid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?____________(36 months)  __________(60 months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entaur"/>
              </a:rPr>
              <a:t>Monthly payment * 36 – Principal loan amount = Interest paid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aur"/>
              </a:rPr>
              <a:t>(Monthly payment * 60 – Principal loan amount = Interest paid)</a:t>
            </a:r>
            <a:endParaRPr b="0" lang="en-US" sz="1200" spc="-1" strike="noStrike">
              <a:solidFill>
                <a:srgbClr val="000000"/>
              </a:solidFill>
              <a:latin typeface="Centaur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What is the total purchasing cost? 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___________(36 months) and __________(60 months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062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aur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entaur"/>
              </a:rPr>
              <a:t>(Total loan amount + Down payment = Total purchasing cost)</a:t>
            </a:r>
            <a:endParaRPr b="0" lang="en-US" sz="1200" spc="-1" strike="noStrike">
              <a:solidFill>
                <a:srgbClr val="000000"/>
              </a:solidFill>
              <a:latin typeface="Centaur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Price difference in total purchasing cost -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onclusion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912600" y="213372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mpare all offers and variables before signing an agreement!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hanging a variable can either save the consumer money or he/she may end up paying much more than anticipated!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58" name="Picture 8" descr="j0078625[1]"/>
          <p:cNvPicPr/>
          <p:nvPr/>
        </p:nvPicPr>
        <p:blipFill>
          <a:blip r:embed="rId1"/>
          <a:stretch/>
        </p:blipFill>
        <p:spPr>
          <a:xfrm>
            <a:off x="7467480" y="228600"/>
            <a:ext cx="5968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Auto Loan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borrowed money to purchase an automobil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erms of the loan will var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Lender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a financial institution who offers loans to consumer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redit Rating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evaluation of a person’s credit history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Based on repayment patterns, prior credit usage, credit history, length of employme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signer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– a person who guarantees the loan for the original borrowe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Responsible for paying the debt back if the original borrower </a:t>
            </a: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defaul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Borrower fails to make payments of principal or interest when due and has not met other requirements of the legal contrac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 cosigner may be required for a loan if the original borrower does not have a credit history or has a bad credit rating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mmon for parents to cosign for young adul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cured Loan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requires a cosigner or </a:t>
            </a: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ollateral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 loan with collateral means the lender has security interest in the property pledged as collateral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mobile loans are secured because the automobile is typically the collateral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f the borrower fails to repay the loan, the lender can then seize the collateral by repossessing, or taking back, the propert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Lender Option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6478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 Deal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ommercial Bank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Savings and Loa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Unio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Online lend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ife Insurance Polic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 Insurance Compan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98" name="Picture 4" descr="j0185918"/>
          <p:cNvPicPr/>
          <p:nvPr/>
        </p:nvPicPr>
        <p:blipFill>
          <a:blip r:embed="rId1"/>
          <a:stretch/>
        </p:blipFill>
        <p:spPr>
          <a:xfrm>
            <a:off x="5410080" y="2895480"/>
            <a:ext cx="2210040" cy="15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Lender Op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redit Unions traditionally offer low APR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uto dealer financing may be easier, but not always the best dea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member – compare every variable to decide best option for consumer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onsumer Right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Truth in Lending Act - 1968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art of the Consumer Protection Ac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pplies to all credit transactio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Mortgages, credit cards, loans, etc.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quires clear disclosure of key terms and all costs in lending agreement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03" name="Picture 4" descr="SY00570_[1]"/>
          <p:cNvPicPr/>
          <p:nvPr/>
        </p:nvPicPr>
        <p:blipFill>
          <a:blip r:embed="rId1"/>
          <a:stretch/>
        </p:blipFill>
        <p:spPr>
          <a:xfrm>
            <a:off x="7086600" y="2362320"/>
            <a:ext cx="1400040" cy="117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7:21:28Z</dcterms:created>
  <dc:creator>Spicher</dc:creator>
  <dc:description/>
  <dc:language>en-US</dc:language>
  <cp:lastModifiedBy>NHBOE</cp:lastModifiedBy>
  <dcterms:modified xsi:type="dcterms:W3CDTF">2012-03-05T12:22:22Z</dcterms:modified>
  <cp:revision>137</cp:revision>
  <dc:subject/>
  <dc:title>Shopping for a Car Loan</dc:title>
</cp:coreProperties>
</file>